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ADA-8010-4A72-B134-D3C520B8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E40-840D-406A-AFAD-AE05A255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D35-CD98-4138-95E2-103EAF7C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EF1-8728-4A2B-900D-3FA983AB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49A-FE64-46F0-B009-20B9CF9B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F0A-51B8-4CCC-9770-684948FC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101-29BD-4DCB-9DB0-A73350AB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A46-5A74-4EDB-82C9-0E888654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56C-785F-48CD-A125-CF5573FF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4B3-2629-43F9-BC9D-35C51FB8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791-A6B2-4C62-B8FB-F960DD89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6EF-EAA5-4BA6-8A13-308DC8E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0AC9-E3B3-4B74-A997-790565C89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505320" y="609480"/>
            <a:ext cx="2019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our schoo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657600" y="5334120"/>
            <a:ext cx="205740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y Trist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3"/>
          <a:stretch/>
        </p:blipFill>
        <p:spPr>
          <a:xfrm>
            <a:off x="3276720" y="2154240"/>
            <a:ext cx="27432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Da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At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Rob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Th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.Ro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Math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Di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ur school is Glenbo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prim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04:15Z</dcterms:created>
  <dc:creator>4glenb2</dc:creator>
  <dc:description/>
  <dc:language>en-US</dc:language>
  <cp:lastModifiedBy>4glenb2</cp:lastModifiedBy>
  <dcterms:modified xsi:type="dcterms:W3CDTF">2009-09-30T09:07:09Z</dcterms:modified>
  <cp:revision>1</cp:revision>
  <dc:subject/>
  <dc:title>PowerPoint Presentation</dc:title>
</cp:coreProperties>
</file>